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FFB-156B-41DD-9567-C8AD2E1B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A22-2EBB-4F74-B4C0-0844FDCB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852CE-02C8-4F0B-BB54-B508385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F888E-616F-42B1-B923-545B778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34EE-586D-4E56-B3E8-BD0088B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B0D74-CD7D-438E-92D4-886A15F7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5AD07-CB06-4B8B-82C9-895142A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E2A6C-3EA1-4541-96C2-A0DA2B96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FFC1-D78F-41E5-887B-4345D5B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7857-ECFA-42E7-93F7-61B17B07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7249A-E764-450C-8B36-7EEFF0CF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DB6B-7CEE-405E-A5A7-B0568E8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82D-783C-4E0F-9871-1675613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F94B7-E634-4566-812A-89B7C4CF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421D0-1943-4C0C-B007-C0DEE555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B390F-B47F-4C76-B8CB-55A8CEE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F15B-E2EB-433C-9677-8E04919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CF33E-326B-4064-95BD-DAAC25DF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49E14-FC2C-46D0-952C-27F56443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19952-5DBF-4AF1-93C9-6129362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5C7DD-528A-428A-9CBC-66CBC54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F4A1F-C4A5-425F-95AE-C36071B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EB262-FD5D-4AD4-B927-0E5D07B2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AB0-7625-475B-BF19-DF3145D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E85A6-BC38-434D-8335-C309340F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72FF-84BA-4C64-BABC-1CBE11B7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1741B-FEE5-443D-A3EE-AD6C2D2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65A63-EF33-4DC5-88E4-56BC2D5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8B63-3F56-4383-A96B-EDD568F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7D196-1833-42B0-8EAA-FC9F38B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4CEB-C0F2-494A-AE19-FE6EC79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7BCFF-86DF-4A26-A4C1-5107E2F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2C076-4FE6-4A35-AB9E-2727D06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52C4-1E14-4829-AEE3-0ECA490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5E4-9AFC-4A36-9C24-C5D4C1FB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97DC-44CC-43D7-84C2-087A839A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88D2-9ED9-4B31-81C3-E63D0E9B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DEF6-5717-4BFD-9CA7-0C9B4A4D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9DACA-B9A5-4742-940E-2F1D108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3F494-FE09-40C9-A4FD-A56464D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6186E-21FE-4213-8782-981B931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5C42A-7E23-47B0-B26B-2B92B3D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FEB47-9680-49FE-8519-7B40ECE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28982-4C22-410A-B4D6-8456EED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F88B-F8EF-4612-80D8-E265894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C14-0D8B-4AF4-88B5-89D18D8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7B363-FD84-493A-B843-285D6BD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63D8D-E174-4A72-AA2B-8B99BDC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3C00-445F-4117-911B-C8D4DEA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3E977-1E93-45E5-A803-F4DD3360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591C9-6196-4775-9C4D-342C2D03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25C3C-577A-4AE4-A07C-9DF5231D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084A8-ED8A-4253-92A3-3F5B7A20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B26EB-A45C-4989-9563-89C87F1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BB3CD-C404-4DFD-959F-C4511BC2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BF983-0CFE-4117-A728-3DF76A4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2BD2-38A6-497E-A1E8-07B8686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739B9-7F61-43C6-815D-6BDC81B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18DCC-DC39-48D2-8155-B23B4F2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D9D2C-338D-4C29-91DA-EF87FE3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32C4C-9B05-4231-B67A-8ECA21F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E79B7-FD94-487A-B177-8D038C6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A81B4-552B-4946-8947-7FFFC1DB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56D7D-E3E5-4D8A-8171-3A685944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7424A-E658-4AC5-BFD6-B9CD1D97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C2EAF-59F2-4271-8552-A16A41EA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265E6-FD19-418B-A960-644B100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ABC3-F172-4134-807E-C008530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C9FC5-7F53-4008-9B78-9BE9877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8FFD1-55C4-4613-AA26-4B0EE5D9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690B9-84DC-42CA-9521-6C9FC743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7D4B9-B7C2-4D1B-A63E-0E49946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CD8AE-90FF-40A9-876F-6E057F4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312AF-B4A8-4FC6-B50F-32E409F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A2BCC-ABF5-4A0E-ABB6-6317856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10555-5C01-411D-BF96-58B8B1D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8554D-291A-4211-BC39-E9DC7645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812F9-1B1A-4892-8797-7DF9FCA5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DB9-375D-48E0-A26A-3AE140C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5BA82-1386-40C5-905E-65E9C97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045B3-6A0C-42ED-A6FF-BEA4D56F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7F00B-EF24-4F0E-8E26-32C52C2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AFC3A-1527-4B08-B5C1-5BA545AC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1EB72-58E4-470B-8598-A863740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81A6E-528A-4F09-8EC3-2CE44FB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D2ECB-3FDE-40C1-93EF-D4E96B7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28E02-486B-47B2-8878-D2A92FB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B0DB5-E140-47D9-9A48-C028A911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3E2EB-4EB7-4666-9402-1956FFD1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FCB-9EC3-469A-8532-9ACE20A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FAE5A-F553-4651-8D2C-F68734E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DEF9B-09CD-4E40-9AE4-6E7C7B4A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5C062-EFCC-41F8-A649-77C450E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4D76A-85E8-4D36-98B8-8B679F5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FDB0C-448B-4D99-BA52-5CF2F536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6CE09-91E6-44F2-B643-D006EECA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8A69C-060C-452B-A025-CF66197B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FAD9C-4115-4792-BA10-A7604526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F17CD-C7ED-49FF-AC2C-C69DC9E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5432D-522E-44D6-85D0-C4100AB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0360-B927-4E14-A47A-7795278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15190-C363-4208-97A9-8D5B0CA4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2531B-D513-4A46-9F6A-2D62CB10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653D3-F7BF-48B2-8D59-1426E142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CF20F-E74B-43F4-AFCE-2DC8D2AD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07BA8-5101-448F-896F-5EAEC2F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52B9D-303A-4850-9121-8B6B99F8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9C3E9-617E-499C-BB1C-AC63D15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B9638-E4B1-4D3C-958C-C45F27F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B8234-BFC2-4012-A194-5D981BE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F8F0B-979D-415E-A71D-61AAF38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454-6E2E-4BAA-A295-BCDEC528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C268-811D-400F-B165-81DA2F2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3023B-F50E-4363-AABB-D5C1741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BDA7C-006F-4CE2-AAEB-DEE9D41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33AAB-F6D1-4F40-95C1-A7399CF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5F8EB-B855-4EC9-A15B-24298D2D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DEECB-8410-46E8-A840-703F6CBD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4376A-5E6A-411A-9058-78FBEBDC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E2DE5-08E9-498B-946E-3FBFDA21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2B834-2206-4132-B8FA-680F954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7CF20-5624-4DDD-B944-8CF94198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755F0-AA45-44A9-8DAF-3BFB2E3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B2A-A166-4E72-B04E-6B3798C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513C6-C3BB-436F-BBE3-C85D0C3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61EA8-C943-42C8-B67A-E61BF47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A8B27-D38D-41DA-BC7E-2E74E11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443FB-9240-453F-B7A5-E580117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135C4-ED4A-4AD8-8B9A-6869FB9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8B69F-A5E5-4770-A904-DD339BF3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AB91F-558E-469D-BC9E-ECEED694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57F35-58C9-4371-8A37-0283377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D0597-A674-4B7F-8F29-31E2AB54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EB507-8D62-4CBB-978F-381EBBF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9FBB-E5A2-4E36-8B2B-86A04F1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F46F4-2A48-4A83-AD90-4E2636EF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48470-BB6A-4E89-B721-B06220C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DC655-8B9F-47A1-AB5E-7244CF2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F493C-CA4B-4EDA-B8C3-89F9796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A3774-41D7-4527-A32F-5ABF309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7BD5F-B90E-4B7D-8C6B-E252993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7623B-FAEE-41E0-9C4A-F5AB93E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C5E2A6-8AC0-45B1-9057-E5AAB8CC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E0AFA-78F1-4057-B649-2A7D51F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C1745-FDCA-49E3-B6C9-28E9D71F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5DC9-971F-4BA1-B8E9-AE4CD08E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3F670-16E1-442D-95D6-419A695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48756-E221-47AE-B44E-3EB4449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091FC-B370-4B0B-8F13-D78DA0E2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B325A-6052-4A51-A20F-27FCE235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C3BDE-D70E-4821-B28B-0A9D3AF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1DA27-EB29-484A-89CA-CD6DBEF0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E0902-4467-4E45-A295-B3870D69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AA660-EF9D-4892-BB62-F4F0021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7CB98-37F6-4D19-9FFF-A9FBF86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4EB56-747B-4B5D-AEE4-FC6D58A4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D2A-4477-4115-A401-A4B82CAF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F2C40-6EFD-4C2B-9224-46651884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3E43E-2972-4107-964C-FDF6D411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D14C1-0766-4053-844A-27A9FBE8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9E288-6418-4490-9C3C-E3D83D9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72A2F-F032-4C0C-A9BE-0E9CE556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E0CA9-237D-4A0E-A1BB-4C9A5FE5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138D1-DA95-4784-90B3-D60EED1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E8AAAC-4C4D-4D79-85AA-12947C8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1571A-877D-4087-98DB-8138C14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F3C35-C6FF-4F4D-B875-9D92A6D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0A38-9AA4-49A9-B330-AC4AC893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7055A-A9B9-44E5-92E0-33BAF36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C2FCE-3630-49F6-AA0A-055746D3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7BB8A-F2B0-4EEB-B7F4-DAC4B3E8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D031-6AD4-4965-A37B-8FEB11A7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959F-E18B-46A4-91E1-B32A0BE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45B1-23A8-4897-B8B2-7D60E5C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7228-CB1F-4CDD-9254-EE62D15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596-B683-447A-B8CE-929D1AE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5109-021A-46F3-B850-2302DA4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262F-5212-419F-9F15-B9FBF31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797E-19B5-4FED-8391-8A1D3B5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93E7-9319-4C81-9E86-F5C8566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A554-E9B8-42A2-BCA6-B57464E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004C-256A-4B46-B428-607F9A6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BCCF-40F7-4B6B-AADA-CF055019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C5B9-3AE6-49D2-AF1E-97F1ACA7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0C99-50D5-4DA2-B6E8-5BF08252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3CDE-7BAA-4841-910A-4D70828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10B-E9C3-44B3-8B41-01AC484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CC53-DF85-4819-9358-BFEE39D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BEAB-7863-4286-A70A-CA3F2277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1B45-BEB5-413C-A561-CF44633B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57A6-3154-416A-9C7E-5BA6ECE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7708-AA53-4A42-8D4B-227FB4F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1489-631A-4124-A46F-8E76312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9FD3-5190-410B-BD2A-3885D855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3215-D05D-4334-A431-9D44AD17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74E6-1C7B-4D4A-A5CA-E8F56108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D55B-A958-4813-924A-8251180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59C-7775-4B1D-803D-EC94191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64C8-2D46-4A82-B996-C5ACE76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FD35-AFD8-48AF-BD0B-EAF344CC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4026-355A-4AFB-9AFA-3D16C48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8944-F32C-4A78-93A5-D67F00E7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D776-7D0C-472C-BB42-126C1402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F9ED-9DFB-4A9F-A3C5-659ED97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9704-2C77-48ED-9EB1-B0B9703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3B8F-C6A7-4A62-9D04-67A68F9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2E6F-E8B7-4286-A768-C322CBA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E9D0-CAD5-407C-8313-52AD5C9C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971-AF9A-4141-B780-5A0E017B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7836-08F3-4FC3-9940-FDA9C8A9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4596C-3326-4AE6-B142-ABF97D8C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7766-EA9B-47A8-9307-34A3E96A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1568-8713-4B3D-9F86-1D2ADA0B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05CD-D402-4C1F-9D68-68833901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05C2-EAC8-43C0-A930-17BEAF01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5DB7-8DAD-4C4B-A0B3-9C96337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5836-18E2-4306-BE6E-74CD7B1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CAE5-A4BC-42A1-A372-39DF4DC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7202-9D1F-4783-8E03-58952EB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4C0-470B-42A8-8203-891F71E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23444-9FC7-4AF9-8784-2897DFEA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46F0-D3AE-433B-98BD-79D840F4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6193-A5E0-4A4D-B255-973E0ADC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5B23-9A65-42A2-8731-42CB310D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C0FA6-0125-4596-B3A1-088D858A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C1B2-3C81-4A9A-BEA7-3F496819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6A57-BEB4-4734-B416-47CF153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1709-407D-4CDD-9CB2-A505955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34B7-99FA-4C71-A05F-2F03CDC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60F16-1943-475E-8268-4D92D86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74B-AB75-45CB-864A-77414CE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1600-DEF0-4844-A4D2-54DA000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0BDA-B8D6-44B3-AF1C-DCB8BB2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327C-B6B3-42E3-8515-905D7A9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E57F-A0A0-4137-88E2-541E7EAA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47FE-B1CF-4C6F-BFCA-3C96763B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6B046-314C-4C0D-81E5-C4C75CED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3E4C2-D0A1-4FF7-850F-4606C856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CD5B-4BAC-433E-959C-2AF35279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B62F-75E9-4B45-AC04-13D36F5B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3C97-68D2-437F-96A9-F9BE6D6F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1B4-88B4-4F34-A92D-37342C0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F6F7B-CDD5-4899-BD79-301665A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C465-50F8-40B4-94FB-EAA8B76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350A-EF2B-43EC-B349-D77D0FF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C44EB-992E-4F6E-94AC-63DCE76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3F48-A024-4CC5-968E-60B15D59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ECB4-8D53-4FB7-AB87-89C4C4A4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BF3D-663C-46D2-842A-87CB9F78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E6B57-85D2-4F74-8C03-36D7669B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18727-567D-4623-8B84-D3198675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EBDC5-EC56-4DBA-BA0E-2203DF0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7BFF-BD1F-4901-B7D6-E006EC37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4AC-E63E-4467-BB6C-D20545DE0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B0F-1E94-4E4F-9A7A-38DED4CC9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2B55-3BB2-4C7C-8230-9D36AB984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1621-984B-4A37-B492-C21F453FB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47CA-D475-4F38-AC39-81F294730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B40C-00F2-4771-BAEC-CD4CEBD02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8B26-9C7C-4176-84C1-A0DB15C28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673-6063-4B3B-9D99-F0F8891B7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9ACE-B3CD-4121-ACA2-001A646A0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65F7-A60B-4330-A26D-5482C3729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9B62-4249-4269-8C2B-EB7C0B090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316-86D3-416B-83A3-7672B845C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BA2-A424-4AEB-BB0E-BFF87077E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74BA-87E5-49C9-B30C-C1944144E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BEBC-FA2B-42C7-B95F-2879648E3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29A-4C45-4E73-99F0-82C7282BC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879E-6207-47F9-9E6C-36CFE92ED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BB39-6EA2-45C2-850F-A25D9DF3B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88E-F608-4C21-91B8-0EA751D05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BC9C-65B6-468F-B710-3662D2807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878F-6B60-4DB0-99C9-5A56B11AB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0888-00D8-478F-BCEA-6CA4BCF66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279D-519C-4127-9051-9F26C4F77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4BA-AA5A-4043-BD32-F016A6DA7E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F261-0803-4CF3-AF0C-6BDC7C1A49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C84-654C-4265-BAAF-43CA51C1A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3BB-FED5-4EE8-8862-2B5B999F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F6B1-334B-4CDB-BA0F-D8F1C3DED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102B-B0A1-4C65-B6B6-D2990F350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6D82-AA4B-4103-930E-9C389DDCE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AB1E-AC08-4684-BF3F-7A2A3129B3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7360-18F5-49BE-9355-68BC58F505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ADF2-4E22-4C9B-B83F-A9C07A3A2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07D-7CBC-4D02-B786-CA49428B5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666-8031-49FF-A56D-A6000837A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F52-575C-47FE-ADAF-15DCADAF8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3C1-0EBE-4C90-9A04-1D5E58D5A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7FE-934A-4940-9EEF-6344CB1AF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7AFE-2073-4856-97E2-FB528C803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7" name="组合 4106"/>
          <p:cNvGrpSpPr/>
          <p:nvPr/>
        </p:nvGrpSpPr>
        <p:grpSpPr>
          <a:xfrm>
            <a:off x="138240" y="1305000"/>
            <a:ext cx="8866080" cy="4248000"/>
            <a:chOff x="138240" y="1305000"/>
            <a:chExt cx="8866080" cy="4248000"/>
          </a:xfrm>
        </p:grpSpPr>
        <p:pic>
          <p:nvPicPr>
            <p:cNvPr id="1028" name="图片 1" descr=""/>
            <p:cNvPicPr/>
            <p:nvPr/>
          </p:nvPicPr>
          <p:blipFill>
            <a:blip r:embed="rId1"/>
            <a:stretch/>
          </p:blipFill>
          <p:spPr>
            <a:xfrm>
              <a:off x="138240" y="1305000"/>
              <a:ext cx="886608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" descr=""/>
            <p:cNvPicPr/>
            <p:nvPr/>
          </p:nvPicPr>
          <p:blipFill>
            <a:blip r:embed="rId2"/>
            <a:stretch/>
          </p:blipFill>
          <p:spPr>
            <a:xfrm>
              <a:off x="971640" y="3976560"/>
              <a:ext cx="7921440" cy="89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2847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900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94036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262728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7596360" y="2506680"/>
            <a:ext cx="360360" cy="320760"/>
          </a:xfrm>
          <a:prstGeom prst="rect">
            <a:avLst/>
          </a:prstGeom>
          <a:ln w="0">
            <a:noFill/>
          </a:ln>
        </p:spPr>
      </p:pic>
      <p:sp>
        <p:nvSpPr>
          <p:cNvPr id="1036" name="直接连接符 4107"/>
          <p:cNvSpPr/>
          <p:nvPr/>
        </p:nvSpPr>
        <p:spPr>
          <a:xfrm>
            <a:off x="971640" y="3933720"/>
            <a:ext cx="151272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4108"/>
          <p:cNvSpPr/>
          <p:nvPr/>
        </p:nvSpPr>
        <p:spPr>
          <a:xfrm flipH="1">
            <a:off x="1042920" y="3933720"/>
            <a:ext cx="145584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4109"/>
          <p:cNvSpPr/>
          <p:nvPr/>
        </p:nvSpPr>
        <p:spPr>
          <a:xfrm>
            <a:off x="4024440" y="3933720"/>
            <a:ext cx="151272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4110"/>
          <p:cNvSpPr/>
          <p:nvPr/>
        </p:nvSpPr>
        <p:spPr>
          <a:xfrm flipH="1">
            <a:off x="4125960" y="3962520"/>
            <a:ext cx="1455840" cy="934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4111"/>
          <p:cNvSpPr/>
          <p:nvPr/>
        </p:nvSpPr>
        <p:spPr>
          <a:xfrm>
            <a:off x="7164360" y="3990960"/>
            <a:ext cx="1152720" cy="9208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4112"/>
          <p:cNvSpPr/>
          <p:nvPr/>
        </p:nvSpPr>
        <p:spPr>
          <a:xfrm flipH="1">
            <a:off x="7164360" y="3919680"/>
            <a:ext cx="1332000" cy="1022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5120" y="1481040"/>
            <a:ext cx="8751960" cy="3895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392436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6948360" y="2003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0000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393876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127" descr=""/>
          <p:cNvPicPr/>
          <p:nvPr/>
        </p:nvPicPr>
        <p:blipFill>
          <a:blip r:embed="rId7"/>
          <a:stretch/>
        </p:blipFill>
        <p:spPr>
          <a:xfrm>
            <a:off x="97164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128" descr=""/>
          <p:cNvPicPr/>
          <p:nvPr/>
        </p:nvPicPr>
        <p:blipFill>
          <a:blip r:embed="rId8"/>
          <a:stretch/>
        </p:blipFill>
        <p:spPr>
          <a:xfrm>
            <a:off x="291636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129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5130" descr=""/>
          <p:cNvPicPr/>
          <p:nvPr/>
        </p:nvPicPr>
        <p:blipFill>
          <a:blip r:embed="rId10"/>
          <a:stretch/>
        </p:blipFill>
        <p:spPr>
          <a:xfrm>
            <a:off x="7264440" y="35002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5131" descr=""/>
          <p:cNvPicPr/>
          <p:nvPr/>
        </p:nvPicPr>
        <p:blipFill>
          <a:blip r:embed="rId11"/>
          <a:stretch/>
        </p:blipFill>
        <p:spPr>
          <a:xfrm>
            <a:off x="957240" y="41194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5132" descr=""/>
          <p:cNvPicPr/>
          <p:nvPr/>
        </p:nvPicPr>
        <p:blipFill>
          <a:blip r:embed="rId12"/>
          <a:stretch/>
        </p:blipFill>
        <p:spPr>
          <a:xfrm>
            <a:off x="2916360" y="413532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5133" descr=""/>
          <p:cNvPicPr/>
          <p:nvPr/>
        </p:nvPicPr>
        <p:blipFill>
          <a:blip r:embed="rId13"/>
          <a:stretch/>
        </p:blipFill>
        <p:spPr>
          <a:xfrm>
            <a:off x="5364000" y="413532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5134" descr=""/>
          <p:cNvPicPr/>
          <p:nvPr/>
        </p:nvPicPr>
        <p:blipFill>
          <a:blip r:embed="rId14"/>
          <a:stretch/>
        </p:blipFill>
        <p:spPr>
          <a:xfrm>
            <a:off x="7294680" y="4119480"/>
            <a:ext cx="1224000" cy="56052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5135" descr=""/>
          <p:cNvPicPr/>
          <p:nvPr/>
        </p:nvPicPr>
        <p:blipFill>
          <a:blip r:embed="rId15"/>
          <a:stretch/>
        </p:blipFill>
        <p:spPr>
          <a:xfrm>
            <a:off x="98568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5136" descr=""/>
          <p:cNvPicPr/>
          <p:nvPr/>
        </p:nvPicPr>
        <p:blipFill>
          <a:blip r:embed="rId16"/>
          <a:stretch/>
        </p:blipFill>
        <p:spPr>
          <a:xfrm>
            <a:off x="291456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5137" descr=""/>
          <p:cNvPicPr/>
          <p:nvPr/>
        </p:nvPicPr>
        <p:blipFill>
          <a:blip r:embed="rId17"/>
          <a:stretch/>
        </p:blipFill>
        <p:spPr>
          <a:xfrm>
            <a:off x="5349960" y="4753080"/>
            <a:ext cx="1224000" cy="5601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5138" descr=""/>
          <p:cNvPicPr/>
          <p:nvPr/>
        </p:nvPicPr>
        <p:blipFill>
          <a:blip r:embed="rId18"/>
          <a:stretch/>
        </p:blipFill>
        <p:spPr>
          <a:xfrm>
            <a:off x="7292880" y="4753080"/>
            <a:ext cx="122400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1400" y="1447920"/>
            <a:ext cx="9020160" cy="411948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146" descr=""/>
          <p:cNvPicPr/>
          <p:nvPr/>
        </p:nvPicPr>
        <p:blipFill>
          <a:blip r:embed="rId2"/>
          <a:stretch/>
        </p:blipFill>
        <p:spPr>
          <a:xfrm>
            <a:off x="755640" y="22604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147" descr=""/>
          <p:cNvPicPr/>
          <p:nvPr/>
        </p:nvPicPr>
        <p:blipFill>
          <a:blip r:embed="rId3"/>
          <a:stretch/>
        </p:blipFill>
        <p:spPr>
          <a:xfrm>
            <a:off x="2843280" y="22478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148" descr=""/>
          <p:cNvPicPr/>
          <p:nvPr/>
        </p:nvPicPr>
        <p:blipFill>
          <a:blip r:embed="rId4"/>
          <a:stretch/>
        </p:blipFill>
        <p:spPr>
          <a:xfrm>
            <a:off x="4802040" y="2247840"/>
            <a:ext cx="1295640" cy="52092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6149" descr=""/>
          <p:cNvPicPr/>
          <p:nvPr/>
        </p:nvPicPr>
        <p:blipFill>
          <a:blip r:embed="rId5"/>
          <a:stretch/>
        </p:blipFill>
        <p:spPr>
          <a:xfrm>
            <a:off x="7107120" y="2247840"/>
            <a:ext cx="1295640" cy="52092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6150" descr=""/>
          <p:cNvPicPr/>
          <p:nvPr/>
        </p:nvPicPr>
        <p:blipFill>
          <a:blip r:embed="rId6"/>
          <a:stretch/>
        </p:blipFill>
        <p:spPr>
          <a:xfrm>
            <a:off x="755640" y="3255840"/>
            <a:ext cx="1295280" cy="52092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6151" descr=""/>
          <p:cNvPicPr/>
          <p:nvPr/>
        </p:nvPicPr>
        <p:blipFill>
          <a:blip r:embed="rId7"/>
          <a:stretch/>
        </p:blipFill>
        <p:spPr>
          <a:xfrm>
            <a:off x="2844720" y="3241800"/>
            <a:ext cx="1295640" cy="5205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6152" descr=""/>
          <p:cNvPicPr/>
          <p:nvPr/>
        </p:nvPicPr>
        <p:blipFill>
          <a:blip r:embed="rId8"/>
          <a:stretch/>
        </p:blipFill>
        <p:spPr>
          <a:xfrm>
            <a:off x="4788000" y="3241800"/>
            <a:ext cx="1295280" cy="52056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6153" descr=""/>
          <p:cNvPicPr/>
          <p:nvPr/>
        </p:nvPicPr>
        <p:blipFill>
          <a:blip r:embed="rId9"/>
          <a:stretch/>
        </p:blipFill>
        <p:spPr>
          <a:xfrm>
            <a:off x="7149960" y="3241800"/>
            <a:ext cx="1295640" cy="52056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6154" descr=""/>
          <p:cNvPicPr/>
          <p:nvPr/>
        </p:nvPicPr>
        <p:blipFill>
          <a:blip r:embed="rId10"/>
          <a:stretch/>
        </p:blipFill>
        <p:spPr>
          <a:xfrm>
            <a:off x="149076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155" descr=""/>
          <p:cNvPicPr/>
          <p:nvPr/>
        </p:nvPicPr>
        <p:blipFill>
          <a:blip r:embed="rId11"/>
          <a:stretch/>
        </p:blipFill>
        <p:spPr>
          <a:xfrm>
            <a:off x="235440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6156" descr=""/>
          <p:cNvPicPr/>
          <p:nvPr/>
        </p:nvPicPr>
        <p:blipFill>
          <a:blip r:embed="rId12"/>
          <a:stretch/>
        </p:blipFill>
        <p:spPr>
          <a:xfrm>
            <a:off x="4643280" y="4249800"/>
            <a:ext cx="719280" cy="52056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6157" descr=""/>
          <p:cNvPicPr/>
          <p:nvPr/>
        </p:nvPicPr>
        <p:blipFill>
          <a:blip r:embed="rId13"/>
          <a:stretch/>
        </p:blipFill>
        <p:spPr>
          <a:xfrm>
            <a:off x="6199200" y="4249800"/>
            <a:ext cx="719280" cy="52056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6158" descr=""/>
          <p:cNvPicPr/>
          <p:nvPr/>
        </p:nvPicPr>
        <p:blipFill>
          <a:blip r:embed="rId14"/>
          <a:stretch/>
        </p:blipFill>
        <p:spPr>
          <a:xfrm>
            <a:off x="7020000" y="424980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6159" descr=""/>
          <p:cNvPicPr/>
          <p:nvPr/>
        </p:nvPicPr>
        <p:blipFill>
          <a:blip r:embed="rId15"/>
          <a:stretch/>
        </p:blipFill>
        <p:spPr>
          <a:xfrm>
            <a:off x="885960" y="4984920"/>
            <a:ext cx="718920" cy="52056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6160" descr=""/>
          <p:cNvPicPr/>
          <p:nvPr/>
        </p:nvPicPr>
        <p:blipFill>
          <a:blip r:embed="rId16"/>
          <a:stretch/>
        </p:blipFill>
        <p:spPr>
          <a:xfrm>
            <a:off x="2771640" y="4984920"/>
            <a:ext cx="633600" cy="5205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6161" descr=""/>
          <p:cNvPicPr/>
          <p:nvPr/>
        </p:nvPicPr>
        <p:blipFill>
          <a:blip r:embed="rId17"/>
          <a:stretch/>
        </p:blipFill>
        <p:spPr>
          <a:xfrm>
            <a:off x="3492360" y="49705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6162" descr=""/>
          <p:cNvPicPr/>
          <p:nvPr/>
        </p:nvPicPr>
        <p:blipFill>
          <a:blip r:embed="rId18"/>
          <a:stretch/>
        </p:blipFill>
        <p:spPr>
          <a:xfrm>
            <a:off x="5133960" y="4970520"/>
            <a:ext cx="633600" cy="5205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6163" descr=""/>
          <p:cNvPicPr/>
          <p:nvPr/>
        </p:nvPicPr>
        <p:blipFill>
          <a:blip r:embed="rId19"/>
          <a:stretch/>
        </p:blipFill>
        <p:spPr>
          <a:xfrm>
            <a:off x="7093080" y="4970520"/>
            <a:ext cx="633240" cy="52056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6164" descr=""/>
          <p:cNvPicPr/>
          <p:nvPr/>
        </p:nvPicPr>
        <p:blipFill>
          <a:blip r:embed="rId20"/>
          <a:stretch/>
        </p:blipFill>
        <p:spPr>
          <a:xfrm>
            <a:off x="8300880" y="4970520"/>
            <a:ext cx="6336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8:5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